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6A5079-33F9-44AD-8767-D5E6F993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16F98C-FA40-4CCD-9361-C61BB74F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63C3D2-8A19-498E-AFA1-423B6688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317430-927A-4BDE-AD45-E99FED7C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604C56-A541-46A4-A68D-7EF2BC721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0BF08C-BA3A-4C90-AD14-C0943494C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26E0EA-B6EC-4B07-8F20-45EC6B6B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740C7D-38EB-4942-9D69-ED958701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FE3105-DADE-488F-9253-7CCE1290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7C2474-AD42-44D4-9F47-BF33760B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F1328B-3A7A-436B-BBF9-8A5859F7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20EF22-1733-40D7-9E63-0EDBB794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007-6D35-4077-8464-DBFA5746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983-3139-4EB9-B50C-CD910FB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489-F7D2-4056-A89B-7429EE2D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640-C4A3-4186-9D84-0D689768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CA7-72E6-480B-AC30-EB89622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F25-F8A6-42C4-BF72-6981988E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556-16B7-4E0E-8F98-565EA152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BD1-32A6-495F-BC71-F63941C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7E3-FFDA-43F8-9547-38B022F2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C53-7EAE-44F0-BA2C-3DA00FD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1B6-2ECA-49D9-AA0A-8483510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474-F747-4791-B965-AD83D98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1CD9-693D-4B59-A102-DB36D8EA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pyright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8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uide to Understanding the Basics about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iving Credi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at you understand a copyright owner’s rights by citing sources you use for your school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rmat your teacher provides – in most cases this includes the name of the creator, the year it was created, and where you found th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t: If you give permi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oem you wrote to be publish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chool Web site, should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be cited as the cre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YES! Your original work is valuable and should be recog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opymachine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20240" y="125280"/>
            <a:ext cx="785520" cy="806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952560" y="392436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xamples of work you have created in class that you can show the copyright symbol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copyright symbol on several items in the classroom and discuss what this means to each ow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What U Have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4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Copy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16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+ right  = Copy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et of legal protections (or rights) provided by the government to the creators of Intellectual prope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YOU create that is fixed                                                                        in a tangible form (something that                                   can be can be seen, reproduced                                           or communicated for more than a                                temporary period of time) is                                             automatically protected by copyrigh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protected"/>
          <p:cNvPicPr/>
          <p:nvPr/>
        </p:nvPicPr>
        <p:blipFill>
          <a:blip r:embed="rId2"/>
          <a:stretch/>
        </p:blipFill>
        <p:spPr>
          <a:xfrm>
            <a:off x="6377040" y="3006720"/>
            <a:ext cx="228276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4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Copy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+ right  = Copy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et of legal protections (or rights) provided by the government to the creators of Intellectual prope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rights protect your creations                                          from being copied, distributed,                                         performed, or changed     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your per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ing your work with the copyright symbol        is very important! It helps others know it is            yours and that it is prot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protected"/>
          <p:cNvPicPr/>
          <p:nvPr/>
        </p:nvPicPr>
        <p:blipFill>
          <a:blip r:embed="rId2"/>
          <a:stretch/>
        </p:blipFill>
        <p:spPr>
          <a:xfrm>
            <a:off x="6377040" y="2622600"/>
            <a:ext cx="228276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pyright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pyright symbol is a C surrounded by a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type CTRL + ALT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omputer"/>
          <p:cNvPicPr/>
          <p:nvPr/>
        </p:nvPicPr>
        <p:blipFill>
          <a:blip r:embed="rId2"/>
          <a:stretch/>
        </p:blipFill>
        <p:spPr>
          <a:xfrm>
            <a:off x="3139920" y="3274920"/>
            <a:ext cx="285300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995640" y="2820960"/>
            <a:ext cx="138276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 baseline="-25000">
                <a:solidFill>
                  <a:srgbClr val="000000"/>
                </a:solidFill>
                <a:latin typeface="Arial"/>
              </a:rPr>
              <a:t>©</a:t>
            </a:r>
            <a:endParaRPr b="1" lang="en-US" sz="16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" name="Picture 9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w it’s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write, draw, or create something – show that it belongs to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 “C”, Year and 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470760" y="35481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8, Ima Writ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612880" y="3011400"/>
            <a:ext cx="1036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" name="Picture 14" descr="COPYBOO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881520" y="4280040"/>
            <a:ext cx="1352520" cy="199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ublic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tems are not protected by copyright. Their copyright protection has expired, they are government works, or they were never protected to begin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at you have learned to give a few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brain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067600" y="203040"/>
            <a:ext cx="962280" cy="75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publicdomain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70040" y="3697200"/>
            <a:ext cx="31874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6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lso some exceptions to copyright laws – called The Fair Use Doctrine. Fair use allows one to use materials for education and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teacher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105760" y="165240"/>
            <a:ext cx="920880" cy="78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fariuse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85960" y="3160800"/>
            <a:ext cx="36860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 Criteria of Fair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and reason for use (will you make money off it or is it for nonprofit educational reason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the work (is it fact based or highly creativ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you will use (is it a large portion or just a small sectio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r use will affect value (are you taking away someone’s ability to make mone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teache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105760" y="165240"/>
            <a:ext cx="9208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giaris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iarism is the use of someone else’s work as your own. For example, this includes another’s ideas you have paraphrased, direct quotes, pictures, and pho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use someone else’s work, make sure you get permission or give credit to the cre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credit is called CIT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. Cite the source for anyt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someone else, inclu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s, songs, artwork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copymachine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20240" y="125280"/>
            <a:ext cx="785520" cy="80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lagiarism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961920" y="4119480"/>
            <a:ext cx="22273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42:31Z</dcterms:created>
  <dc:creator>klamon</dc:creator>
  <dc:description/>
  <dc:language>en-US</dc:language>
  <cp:lastModifiedBy>cwalpole</cp:lastModifiedBy>
  <dcterms:modified xsi:type="dcterms:W3CDTF">2008-06-18T17:41:59Z</dcterms:modified>
  <cp:revision>36</cp:revision>
  <dc:subject/>
  <dc:title>Copyright Can Do</dc:title>
</cp:coreProperties>
</file>